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116E-57A6-49B3-A558-0623FE3A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69880" y="2201760"/>
            <a:ext cx="728172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69880" y="4590000"/>
            <a:ext cx="728172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27BC-E967-4A12-A3E9-3A9D124F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9880" y="2201760"/>
            <a:ext cx="35532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01280" y="2201760"/>
            <a:ext cx="35532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9880" y="4590000"/>
            <a:ext cx="35532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101280" y="4590000"/>
            <a:ext cx="35532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C12C-37D3-4DC9-94D5-D68D5A5E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69880" y="2201760"/>
            <a:ext cx="234432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2201760"/>
            <a:ext cx="234432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93600" y="2201760"/>
            <a:ext cx="234432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69880" y="4590000"/>
            <a:ext cx="234432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1920" y="4590000"/>
            <a:ext cx="234432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93600" y="4590000"/>
            <a:ext cx="234432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06FE-10D5-467F-952E-D6C2FA505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9606-729B-4458-9795-58CEF81C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369880" y="2201760"/>
            <a:ext cx="7281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E6FF-3EEB-4ED0-B6E5-8104E056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69880" y="2201760"/>
            <a:ext cx="728172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741B-EE8B-42D7-895A-D4EAE536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69880" y="2201760"/>
            <a:ext cx="35532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101280" y="2201760"/>
            <a:ext cx="35532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7C73-DB76-4941-BAC7-B3AA98BE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639B-79A6-43A4-A91B-25D9F3B2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15720" y="677880"/>
            <a:ext cx="753588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8C93-C9A6-4203-BB53-B7ED1F59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69880" y="2201760"/>
            <a:ext cx="35532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101280" y="2201760"/>
            <a:ext cx="35532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369880" y="4590000"/>
            <a:ext cx="35532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799A-F94C-4BED-AD39-A29FA04E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69880" y="2201760"/>
            <a:ext cx="7281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2886-CFAF-431F-A479-BC3B89ED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9880" y="2201760"/>
            <a:ext cx="35532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101280" y="2201760"/>
            <a:ext cx="35532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01280" y="4590000"/>
            <a:ext cx="35532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DAE1-ECA6-40A0-93A5-84E2EBB2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9880" y="2201760"/>
            <a:ext cx="35532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101280" y="2201760"/>
            <a:ext cx="35532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369880" y="4590000"/>
            <a:ext cx="728172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CF2B-BD06-4441-9D07-5E7986FC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9880" y="2201760"/>
            <a:ext cx="728172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369880" y="4590000"/>
            <a:ext cx="728172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3AAF-CBEE-402B-9DE2-BFA4E7EE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69880" y="2201760"/>
            <a:ext cx="35532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01280" y="2201760"/>
            <a:ext cx="35532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369880" y="4590000"/>
            <a:ext cx="35532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101280" y="4590000"/>
            <a:ext cx="35532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52F9-8184-4040-A50B-A1E0218D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369880" y="2201760"/>
            <a:ext cx="234432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1920" y="2201760"/>
            <a:ext cx="234432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293600" y="2201760"/>
            <a:ext cx="234432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369880" y="4590000"/>
            <a:ext cx="234432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1920" y="4590000"/>
            <a:ext cx="234432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293600" y="4590000"/>
            <a:ext cx="234432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4ECA-B934-4400-BC56-3098760C7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69880" y="2201760"/>
            <a:ext cx="728172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9124-D5B4-4E0D-8DC4-69AC2122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9880" y="2201760"/>
            <a:ext cx="35532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101280" y="2201760"/>
            <a:ext cx="35532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7804-AE3D-411E-9165-31DE82F4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85B2-6124-4D1C-80F5-DD4E31A7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15720" y="677880"/>
            <a:ext cx="753588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3127-5559-4958-85E7-0D6501EC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9880" y="2201760"/>
            <a:ext cx="35532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101280" y="2201760"/>
            <a:ext cx="35532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69880" y="4590000"/>
            <a:ext cx="35532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33C2-461A-4808-AF2E-233070B9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69880" y="2201760"/>
            <a:ext cx="35532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101280" y="2201760"/>
            <a:ext cx="35532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01280" y="4590000"/>
            <a:ext cx="35532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60F7-7A70-43FD-99FB-C886A813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69880" y="2201760"/>
            <a:ext cx="35532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101280" y="2201760"/>
            <a:ext cx="35532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69880" y="4590000"/>
            <a:ext cx="728172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4254-15FE-4462-97E5-2F95137C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9880" y="2201760"/>
            <a:ext cx="728172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0000"/>
          </a:bodyPr>
          <a:p>
            <a:pPr marL="342720" indent="-342720"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2680" indent="-285480">
              <a:spcBef>
                <a:spcPts val="901"/>
              </a:spcBef>
              <a:buClr>
                <a:srgbClr val="000000"/>
              </a:buClr>
              <a:buFont typeface="Verdana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Verdana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Verdana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Verdana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Verdana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32040" y="6941880"/>
            <a:ext cx="211608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26000" y="6941880"/>
            <a:ext cx="3216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35880" y="6941880"/>
            <a:ext cx="211608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F8C8A599-08CF-4A4A-9526-434A3353D02E}" type="slidenum"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40160" y="2201400"/>
            <a:ext cx="6858000" cy="1608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015920" y="6941880"/>
            <a:ext cx="211608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471840" y="6941880"/>
            <a:ext cx="3216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81360" y="6941880"/>
            <a:ext cx="21164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7B6F64AD-AE87-43B5-97CF-B140A88F316F}" type="slidenum"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0" algn="ctr">
              <a:spcBef>
                <a:spcPts val="77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2" marL="1015920" algn="ctr"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3" marL="1523880" algn="ctr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31840" algn="ctr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31840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31840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/url?sa=X&amp;start=1&amp;oi=define&amp;ei=BcClSfObEYy-M4PvscAK&amp;sig2=UbrEdI1d-Y-U-iNk3swPnQ&amp;q=http://www.parliament.vic.gov.au/SARC/E-Democracy/Final_Report/Glossary.htm&amp;usg=AFQjCNFYUXCdxRPdvyzGd4_2skpEQqSI5g" TargetMode="External"/><Relationship Id="rId3" Type="http://schemas.openxmlformats.org/officeDocument/2006/relationships/hyperlink" Target="http://www.google.com/url?sa=X&amp;start=1&amp;oi=define&amp;ei=BcClSfObEYy-M4PvscAK&amp;sig2=UbrEdI1d-Y-U-iNk3swPnQ&amp;q=http://www.parliament.vic.gov.au/SARC/E-Democracy/Final_Report/Glossary.htm&amp;usg=AFQjCNFYUXCdxRPdvyzGd4_2skpEQqSI5g" TargetMode="External"/><Relationship Id="rId4" Type="http://schemas.openxmlformats.org/officeDocument/2006/relationships/hyperlink" Target="http://www.google.com/url?sa=X&amp;start=1&amp;oi=define&amp;ei=BcClSfObEYy-M4PvscAK&amp;sig2=UbrEdI1d-Y-U-iNk3swPnQ&amp;q=http://www.parliament.vic.gov.au/SARC/E-Democracy/Final_Report/Glossary.htm&amp;usg=AFQjCNFYUXCdxRPdvyzGd4_2skpEQqSI5g" TargetMode="External"/><Relationship Id="rId5" Type="http://schemas.openxmlformats.org/officeDocument/2006/relationships/hyperlink" Target="http://www.google.com/url?sa=X&amp;start=1&amp;oi=define&amp;ei=BcClSfObEYy-M4PvscAK&amp;sig2=UbrEdI1d-Y-U-iNk3swPnQ&amp;q=http://www.parliament.vic.gov.au/SARC/E-Democracy/Final_Report/Glossary.htm&amp;usg=AFQjCNFYUXCdxRPdvyzGd4_2skpEQqSI5g" TargetMode="External"/><Relationship Id="rId6" Type="http://schemas.openxmlformats.org/officeDocument/2006/relationships/hyperlink" Target="http://www.google.com/url?sa=X&amp;start=1&amp;oi=define&amp;ei=BcClSfObEYy-M4PvscAK&amp;sig2=UbrEdI1d-Y-U-iNk3swPnQ&amp;q=http://www.parliament.vic.gov.au/SARC/E-Democracy/Final_Report/Glossary.htm&amp;usg=AFQjCNFYUXCdxRPdvyzGd4_2skpEQqSI5g" TargetMode="External"/><Relationship Id="rId7" Type="http://schemas.openxmlformats.org/officeDocument/2006/relationships/hyperlink" Target="http://www.google.com/url?sa=X&amp;start=1&amp;oi=define&amp;ei=BcClSfObEYy-M4PvscAK&amp;sig2=UbrEdI1d-Y-U-iNk3swPnQ&amp;q=http://www.parliament.vic.gov.au/SARC/E-Democracy/Final_Report/Glossary.htm&amp;usg=AFQjCNFYUXCdxRPdvyzGd4_2skpEQqSI5g" TargetMode="External"/><Relationship Id="rId8" Type="http://schemas.openxmlformats.org/officeDocument/2006/relationships/hyperlink" Target="http://www.google.com/url?sa=X&amp;start=1&amp;oi=define&amp;ei=BcClSfObEYy-M4PvscAK&amp;sig2=UbrEdI1d-Y-U-iNk3swPnQ&amp;q=http://www.parliament.vic.gov.au/SARC/E-Democracy/Final_Report/Glossary.htm&amp;usg=AFQjCNFYUXCdxRPdvyzGd4_2skpEQqSI5g" TargetMode="External"/><Relationship Id="rId9" Type="http://schemas.openxmlformats.org/officeDocument/2006/relationships/hyperlink" Target="http://www.quantum3.co.za/CI%20Glossary.htm" TargetMode="External"/><Relationship Id="rId10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559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Social Networks in the Education Setting</a:t>
            </a:r>
            <a:endParaRPr b="0" lang="en-US" sz="5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2819160"/>
            <a:ext cx="675648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yan Schaaf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son Poiri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ltimore Convention Center Room 334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:30 p.m. – 4:00 p.m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04720" y="647640"/>
            <a:ext cx="915048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Verdana"/>
              </a:rPr>
              <a:t>Hands-On Session</a:t>
            </a: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9448560" cy="464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o to http://www.ning.com and sign up. Only give required information. Feel free to add a photo if you have one for your profile pag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o to http://micca2009.ning.com and sign up to join.You will request to join and I will accept you into the network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53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Hands-On Session (cont’d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9372600" cy="541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reak up into grou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ach group will concentrate on a certain feature of the network to add some content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Verdana"/>
              </a:rPr>
              <a:t>Group 1</a:t>
            </a: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369880" y="2201760"/>
            <a:ext cx="728172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scussion Group - each member can respond to the discussion thread that was sta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s there a place for social networks in education? What are the pros and cons to having them?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Verdana"/>
              </a:rPr>
              <a:t>Group 2 </a:t>
            </a: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369880" y="2201760"/>
            <a:ext cx="728172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lendar Group - this group can add fictitious events occurring in the new futur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Verdana"/>
              </a:rPr>
              <a:t>Group 3</a:t>
            </a: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369880" y="2201760"/>
            <a:ext cx="728172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log group - create a post describing some of the interesting booths, workshops, or sessions you have or are looking forward to visiting this year at the conferenc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Verdana"/>
              </a:rPr>
              <a:t>Group 4</a:t>
            </a: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369880" y="2201760"/>
            <a:ext cx="728172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xt Box 1 Group - add internet links with short descriptions of internet sites about social networks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Verdana"/>
              </a:rPr>
              <a:t>Group 5</a:t>
            </a: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369880" y="2201760"/>
            <a:ext cx="728172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otes Group - please create a short summary of key points made during the workshop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Verdana"/>
              </a:rPr>
              <a:t>Group 6 </a:t>
            </a: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369880" y="2201760"/>
            <a:ext cx="728172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xt Box 2 Group -add cool web 2.0 websites with a short description of their purpos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96680" y="721800"/>
            <a:ext cx="8566200" cy="11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Verdana"/>
              </a:rPr>
              <a:t>Workshop Agenda</a:t>
            </a: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96680" y="2246400"/>
            <a:ext cx="8566200" cy="44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7960" indent="-393480">
              <a:lnSpc>
                <a:spcPct val="95000"/>
              </a:lnSpc>
              <a:buClr>
                <a:srgbClr val="000000"/>
              </a:buClr>
              <a:buFont typeface="Verdan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orkshop Motivation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393480">
              <a:lnSpc>
                <a:spcPct val="95000"/>
              </a:lnSpc>
              <a:buClr>
                <a:srgbClr val="000000"/>
              </a:buClr>
              <a:buFont typeface="Verdan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fine &amp; Analyze Social Network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393480">
              <a:lnSpc>
                <a:spcPct val="95000"/>
              </a:lnSpc>
              <a:buClr>
                <a:srgbClr val="000000"/>
              </a:buClr>
              <a:buFont typeface="Verdan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mpact on Society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393480">
              <a:lnSpc>
                <a:spcPct val="95000"/>
              </a:lnSpc>
              <a:buClr>
                <a:srgbClr val="000000"/>
              </a:buClr>
              <a:buFont typeface="Verdan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view Social Network Feature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393480">
              <a:lnSpc>
                <a:spcPct val="95000"/>
              </a:lnSpc>
              <a:buClr>
                <a:srgbClr val="000000"/>
              </a:buClr>
              <a:buFont typeface="Verdan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ing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393480">
              <a:lnSpc>
                <a:spcPct val="95000"/>
              </a:lnSpc>
              <a:buClr>
                <a:srgbClr val="000000"/>
              </a:buClr>
              <a:buFont typeface="Verdan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ablish a social network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393480">
              <a:lnSpc>
                <a:spcPct val="95000"/>
              </a:lnSpc>
              <a:buClr>
                <a:srgbClr val="000000"/>
              </a:buClr>
              <a:buFont typeface="Verdan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mine how social networks can be used in an education setting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is a Social Network?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85920" y="1295280"/>
            <a:ext cx="977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7960"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3934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personal or professional set of relationships between individuals. Social networks represent both a collection of ties between people and the strength of those ties. ...</a:t>
            </a:r>
            <a:br>
              <a:rPr sz="2700"/>
            </a:br>
            <a:r>
              <a:rPr b="0" lang="en-US" sz="27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  <a:hlinkClick r:id="rId2"/>
              </a:rPr>
              <a:t>www.parliament.</a:t>
            </a:r>
            <a:r>
              <a:rPr b="0" lang="en-US" sz="27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  <a:hlinkClick r:id="rId3"/>
              </a:rPr>
              <a:t>vic</a:t>
            </a:r>
            <a:r>
              <a:rPr b="0" lang="en-US" sz="27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  <a:hlinkClick r:id="rId4"/>
              </a:rPr>
              <a:t>.</a:t>
            </a:r>
            <a:r>
              <a:rPr b="0" lang="en-US" sz="27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  <a:hlinkClick r:id="rId5"/>
              </a:rPr>
              <a:t>gov</a:t>
            </a:r>
            <a:r>
              <a:rPr b="0" lang="en-US" sz="27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  <a:hlinkClick r:id="rId6"/>
              </a:rPr>
              <a:t>.</a:t>
            </a:r>
            <a:r>
              <a:rPr b="0" lang="en-US" sz="27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  <a:hlinkClick r:id="rId7"/>
              </a:rPr>
              <a:t>au/SARC/E-Democracy/Final_Report/Glossary</a:t>
            </a:r>
            <a:r>
              <a:rPr b="0" lang="en-US" sz="27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  <a:hlinkClick r:id="rId8"/>
              </a:rPr>
              <a:t>.htm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3934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a map of relationships between individuals or organizations. It comprises nodes (usually individuals or organizations)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3934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  <a:hlinkClick r:id="rId9"/>
              </a:rPr>
              <a:t>www.quantum3.co.za/CI%20Glossary.htm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3934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web of interconnected people who directly or indirectly interact </a:t>
            </a:r>
            <a:br>
              <a:rPr sz="2700"/>
            </a:b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ＭＳ Ｐゴシック"/>
              </a:rPr>
              <a:t>rrtcpbs.fmhi.usf.edu/rrtcpbsweb/glossary.htm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0360" y="46080"/>
            <a:ext cx="8566200" cy="11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Popular Social Networks - Number of Accounts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2759040" y="1022400"/>
            <a:ext cx="24462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don, based serving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24560" y="1074600"/>
            <a:ext cx="29034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million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89200" y="1974960"/>
            <a:ext cx="24462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g early, Blog o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59480" y="2027160"/>
            <a:ext cx="29034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 million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59040" y="2909880"/>
            <a:ext cx="2446200" cy="10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, connect and keep in touch with 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83080" y="2962440"/>
            <a:ext cx="2903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million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76680" y="4179960"/>
            <a:ext cx="244620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organized by city or region to connect and interact with other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52920" y="4232160"/>
            <a:ext cx="2903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  million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30680" y="5484960"/>
            <a:ext cx="24462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active, user-submitted network of friends, personal profiles, blogs, groups, photos, music, and vide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70560" y="5626080"/>
            <a:ext cx="29034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3 million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03440" y="2009880"/>
            <a:ext cx="1906560" cy="712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090440" y="1111320"/>
            <a:ext cx="1322640" cy="609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055520" y="5626080"/>
            <a:ext cx="1474920" cy="1474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650880" y="4373640"/>
            <a:ext cx="1906560" cy="712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7640" y="3121200"/>
            <a:ext cx="267300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406600" y="246240"/>
            <a:ext cx="52578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cial Networking Spotlight - Worldw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905120"/>
            <a:ext cx="853452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140 global social network services worldw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7 billion user ac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less than 8 months, Facebook has doubled its users from 100 to 200 million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pace has booted over 90,000 sex offenders from its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mainstream businesses are using social networks as a means for communication. IBM launched LotusLive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>
            <a:lum contrast="-2000"/>
          </a:blip>
          <a:stretch/>
        </p:blipFill>
        <p:spPr>
          <a:xfrm>
            <a:off x="1219320" y="1523880"/>
            <a:ext cx="7696080" cy="4646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124080" y="2133720"/>
            <a:ext cx="916200" cy="704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981080" y="762120"/>
            <a:ext cx="6553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Networking Top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Verdana"/>
              </a:rPr>
              <a:t>Potential School-based Social Networks</a:t>
            </a: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369880" y="2201760"/>
            <a:ext cx="728172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chools United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www.theschoolsunited.co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gg.or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elgg.or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www.ning.co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96680" y="721800"/>
            <a:ext cx="8566200" cy="11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Ning Features</a:t>
            </a: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442584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7960" indent="-3934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olled memb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3934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vacy sett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3934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l-time activity stream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3934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 Textboxes and widge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3934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SS Feed In/Ou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1981080"/>
            <a:ext cx="4807080" cy="32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 Gall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deo Gall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ussion 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 Cha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nt Cale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04720" y="790560"/>
            <a:ext cx="9150480" cy="60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Howard County</cp:lastModifiedBy>
  <dcterms:modified xsi:type="dcterms:W3CDTF">2009-04-15T21:14:47Z</dcterms:modified>
  <cp:revision>4</cp:revision>
  <dc:subject/>
  <dc:title>PowerPoint Presentation</dc:title>
</cp:coreProperties>
</file>